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1FAD-3086-4C87-8AB4-FEC091671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abacus.bates.edu/acad/depts/biobook/Melanism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http://okadadesign.blogspot.ca/2010/09/contrast-pattern-evolu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C69-50EC-40C1-9EC3-E01010DB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805-9B48-4554-8F17-93D472D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424-A754-41DF-A4E6-2DE71524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6E6-7147-4442-A69F-73EEFC3B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51F1-9EBB-4FB9-A011-BABDB59F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058-07BF-4E7D-8DAE-6E5CDA3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E43A-5EB3-4ACF-A3FE-5B06A463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B564-2923-4A4C-B948-46EADFCF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FFD9-F7E5-461C-8683-645AF4EA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F48F-CC65-4764-A060-B369382D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5E3D-92EE-4B92-AC2E-AF7D2BD8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29A-2C63-4394-94D5-69EA55F7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3D9A-FAA7-481F-A744-2C241057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296C-E392-4D47-9344-52348481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B029-CA37-48DD-B6B5-9619AECA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375D-CA65-4636-9B76-B3BB562A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B64-199D-4830-8490-57055119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863-E33F-410C-AA8D-B1588FF6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44B-0EC7-4AA9-95C2-98574BA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E1B-AC9F-41FB-A2A2-8D877624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9BC-406F-4740-AEC8-181AF2C7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3DC-9EF9-463E-B177-69373E00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24F-F4CC-41A4-A5A6-4C34FF82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073-AB39-4F47-B815-7B149A9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43BD-2F56-4B14-8F0F-D95DBCD6BE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8125-5B91-413D-B4A2-F2FC1E4972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dustrial Mel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example of evolution by natural s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ase of Industrial Mel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e Industrial Revolution, peppered moth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ston betul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ere predominantly white with black spec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end of the 1800s, they were predominantly charcoal g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t (1896) hypothesized that pollution-stained trees affected the camouflage potential of the mo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519360"/>
            <a:ext cx="434340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27360" y="609480"/>
            <a:ext cx="368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73200" y="609480"/>
            <a:ext cx="599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nard Kettlewell decided to test the hypothesis in the 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lewell released &amp; recaptured marked light and dark moths into polluted and non-polluted fo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4038480"/>
          <a:ext cx="54864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Recaptured from unpolluted are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Recaptured from polluted are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4.6% L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3.0% L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.7% D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7.5% D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bserved and filmed the moths in day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ound that birds appeared to prey selectively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ght moths in polluted fore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rk moths in non-polluted fo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nti-pollution laws took effect and the bark lightened, the moth populations in formerly polluted areas returned to previous colour dis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bird predation may not be the only factor involved in the selection of one colour over the other, this is still a clear example of natural selection in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7:29Z</dcterms:created>
  <dc:creator>Student</dc:creator>
  <dc:description/>
  <dc:language>en-US</dc:language>
  <cp:lastModifiedBy>rubina khan</cp:lastModifiedBy>
  <dcterms:modified xsi:type="dcterms:W3CDTF">2014-11-19T17:34:27Z</dcterms:modified>
  <cp:revision>18</cp:revision>
  <dc:subject/>
  <dc:title>SBI4U</dc:title>
</cp:coreProperties>
</file>